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7EE92A-39B0-4F2B-AE7D-79DC0E486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C0EEC3-0957-4D47-840E-C0B554639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B3593B-51CD-497E-B742-965E417B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85DE-0888-44D3-B0BF-D84C97843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E41C-9CB9-4EF7-95D6-7E13B21BA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A7C8-565C-4B24-B3E0-BEA2A85EC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B1AF-F8C0-45F6-8117-E67687A8C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EDC4-8D90-451F-B98D-0292CE424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285C-D0E0-440C-891F-89D830175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594C-9F5E-4D43-BB5B-8C7D390383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31BE-850A-42CB-AF58-C99E1843BC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A126-8A53-4711-8C58-4CC4286E48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DBBD-B7F5-49B8-B5C5-4365BDEBB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1960-C514-424E-9048-91A5FCB1E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3139-7723-4923-826E-F60E2A1E5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E007-60D3-41A0-A984-0AC8DF361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E524-6B38-4316-8EFF-8785CD444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64E7-BC5E-4466-B8A4-52669BFB7B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9025-1564-4D9E-81F4-F5E8C3F27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61BC-AB3E-4BF2-BA0C-6E938D21E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99A-4014-4473-A58D-F940191E9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F1D6-8AEA-48D0-BC1D-97AC09970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013A-B9C1-4016-A99F-BC6045858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00A8-E89B-4327-98AF-E76054232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1E91-A6D6-4EC5-9ACC-FE46844EC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86B9-DC92-4E5E-A107-541F9BD4B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087F-CAF3-4854-B35D-C9D04A03C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o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9DFE-4939-4889-A9F2-72EBDDF1C73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ortada_p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"/>
          <p:cNvSpPr/>
          <p:nvPr/>
        </p:nvSpPr>
        <p:spPr>
          <a:xfrm>
            <a:off x="1411200" y="8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4120" y="638820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C09F-6C06-4504-B754-1C79CA42BF80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678-DBD3-4031-BBA4-9C87B961CBB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ódulo III: Redacción de géneros académicos en español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E60-2CFB-4B54-86DA-17FEB1A3DF0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ritor aprendiz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cribe de manera muy simpl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iensa en los lectores: escribe un texto difícil de comprender. 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nota ideas sin organizarl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lanific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corrige  o solo se enfoca en la forma (ortografía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reencia errónea: Escribir es una acción “espontánea” = habla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ultado:   Produce textos con problemas divers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B2E-DAD7-4847-842D-1785E70F355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ómo se desarrolla una redacción. Serafini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lanific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oducción de las ide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Recogida y organización de las informa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oducción d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l párrafo. Las conexiones. La puntuación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introducción y las conclus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revis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Del contenido. De la forma. La final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5E45-BF22-43B3-97D8-1D931F7C21F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Proceso de la escritura.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assany y Del Toro.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435640" y="2060640"/>
            <a:ext cx="3384360" cy="3097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grpSp>
        <p:nvGrpSpPr>
          <p:cNvPr id="132" name="Group 43"/>
          <p:cNvGrpSpPr/>
          <p:nvPr/>
        </p:nvGrpSpPr>
        <p:grpSpPr>
          <a:xfrm>
            <a:off x="826920" y="1916280"/>
            <a:ext cx="7777080" cy="4797360"/>
            <a:chOff x="826920" y="1916280"/>
            <a:chExt cx="7777080" cy="4797360"/>
          </a:xfrm>
        </p:grpSpPr>
        <p:sp>
          <p:nvSpPr>
            <p:cNvPr id="133" name="Rectangle 5"/>
            <p:cNvSpPr/>
            <p:nvPr/>
          </p:nvSpPr>
          <p:spPr>
            <a:xfrm>
              <a:off x="826920" y="1916280"/>
              <a:ext cx="3168720" cy="30240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3995640" y="48690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11280" y="5156280"/>
              <a:ext cx="3240000" cy="15573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140000" y="3571920"/>
              <a:ext cx="8636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900000" y="2421000"/>
              <a:ext cx="1655640" cy="865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2484360" y="3429000"/>
              <a:ext cx="1295280" cy="7923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900000" y="4221360"/>
              <a:ext cx="1511280" cy="64764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476360" y="3571920"/>
              <a:ext cx="0" cy="433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2627280" y="2853000"/>
              <a:ext cx="504720" cy="431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 flipH="1">
              <a:off x="2555280" y="4292640"/>
              <a:ext cx="576360" cy="432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1476360" y="5877000"/>
              <a:ext cx="86364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V="1">
              <a:off x="1476360" y="5085000"/>
              <a:ext cx="0" cy="792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5" name="Rectangle 18"/>
            <p:cNvSpPr/>
            <p:nvPr/>
          </p:nvSpPr>
          <p:spPr>
            <a:xfrm>
              <a:off x="4356000" y="5229360"/>
              <a:ext cx="122400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427280" y="5948640"/>
              <a:ext cx="1152720" cy="504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4932360" y="5732640"/>
              <a:ext cx="0" cy="1443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5364000" y="2637000"/>
              <a:ext cx="172872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6948360" y="3429000"/>
              <a:ext cx="1584360" cy="4320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5435640" y="4437000"/>
              <a:ext cx="1441440" cy="5032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>
              <a:off x="6011640" y="3213360"/>
              <a:ext cx="0" cy="1150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7164360" y="2924280"/>
              <a:ext cx="792000" cy="431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5795640" y="5805720"/>
              <a:ext cx="10810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 flipV="1">
              <a:off x="6877080" y="5156280"/>
              <a:ext cx="0" cy="649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>
              <a:off x="971280" y="242100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Analizar la situ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6" name="Text Box 32"/>
            <p:cNvSpPr/>
            <p:nvPr/>
          </p:nvSpPr>
          <p:spPr>
            <a:xfrm>
              <a:off x="2555640" y="350064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Generar ideas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7" name="Text Box 33"/>
            <p:cNvSpPr/>
            <p:nvPr/>
          </p:nvSpPr>
          <p:spPr>
            <a:xfrm>
              <a:off x="5508360" y="2708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Referenci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8" name="Text Box 35"/>
            <p:cNvSpPr/>
            <p:nvPr/>
          </p:nvSpPr>
          <p:spPr>
            <a:xfrm>
              <a:off x="7092720" y="3500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Transcribi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59" name="Text Box 36"/>
            <p:cNvSpPr/>
            <p:nvPr/>
          </p:nvSpPr>
          <p:spPr>
            <a:xfrm>
              <a:off x="900000" y="414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Elaborar un proyec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0" name="Text Box 37"/>
            <p:cNvSpPr/>
            <p:nvPr/>
          </p:nvSpPr>
          <p:spPr>
            <a:xfrm>
              <a:off x="5508360" y="4508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Lineariz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1" name="Text Box 38"/>
            <p:cNvSpPr/>
            <p:nvPr/>
          </p:nvSpPr>
          <p:spPr>
            <a:xfrm>
              <a:off x="2700360" y="57326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REVIS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2" name="Text Box 39"/>
            <p:cNvSpPr/>
            <p:nvPr/>
          </p:nvSpPr>
          <p:spPr>
            <a:xfrm>
              <a:off x="4427280" y="530064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Evalua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3" name="Text Box 40"/>
            <p:cNvSpPr/>
            <p:nvPr/>
          </p:nvSpPr>
          <p:spPr>
            <a:xfrm>
              <a:off x="4500360" y="6021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Corregir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4" name="Text Box 41"/>
            <p:cNvSpPr/>
            <p:nvPr/>
          </p:nvSpPr>
          <p:spPr>
            <a:xfrm>
              <a:off x="1116000" y="191628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PLANIFIC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165" name="Text Box 42"/>
            <p:cNvSpPr/>
            <p:nvPr/>
          </p:nvSpPr>
          <p:spPr>
            <a:xfrm>
              <a:off x="5580000" y="206064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Impact"/>
                </a:rPr>
                <a:t>TEXTUALIZACIÓN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DF3A-29AD-457F-812E-FAAC97FE054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2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os géneros académic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CC4-B55F-456D-9821-B84218B4502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EXTO EXPOSITIV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esenta y explica ideas, sujetos y argumentos; aclara fines; y muestra la organización del text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tiliza diferentes  modos retóricos, tales como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definición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clasifi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comparación            - analogí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- paráfrasis                 - ejemplo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D6B8-6FD0-4A13-BF8F-DBF0B2E9A80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 Aspectos sociocultur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usan en el ámbito educativo (escuela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sempeñan las funciones de: mostrar conocimientos, exponer resultados de una investigación, enseñar – aprende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 contenido procede de otros textos o actividades académicas. Presencia de intertextualidad. Exigen elaboración epistemológica de la inform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s usuarios son investigadores, docentes y estudiant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BCE-B3DE-4E28-8370-B4ADB88E209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pragmátic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5. El autor es generalmente una person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6. La audiencia son grupos de coleg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7. Los temas pertenecen al paradigma científico del saber human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8. El rasgo más importante para leerlos y utilizarlos es la descontextualización: se presentan, se evalúan y se realizan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en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y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para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enseñanza y el aprendizaje (el aula). Son cerrados y opa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9. El texto académico se refiere con mucha frecuencia a fuentes extern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5B1-BC49-4977-AB12-FD8EBCB56D7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discurs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0. La estructura es abierta, no siempre tipificada y ha de elaborarla el lecto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1. Las partes o componentes principales son: introducción, desarrollo y conclus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2. El grado de formalidad es muy al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13. Las secuencias textuales encontradas son descripción, explicación, argumentación; con definiciones, clasificaciones, análisis, ejempl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498B-4A96-4F76-A0EC-BF750D58942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. A. Aspectos gramaticales y léxic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El lenguaje es altamente especializado, de la variedad estándar y con registro formal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fraseología típica son oraciones impersonales y nominalizació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selección sintáctica es uso del tiempo presente de indicativo, tercera persona del singular y también primera persona del plural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La sintaxis es compleja; se aleja de los usos cotidianos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Utiliza todos los signos de puntuación, aunque las exclamaciones suelen estar ausentes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5C7B-316A-4F13-B23B-B51381A96F4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T. A. Aspectos gráfic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19. Los documentos se presentan con formatos establecid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20. Los recursos gráficos que se emplean   principalmente son: diagramas, tablas, mapas, gráficas y cuadr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907-384C-406B-B75D-F2FBED73FDE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dentificar el uso de estrategias para escribi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conceptos relacionados con el proceso general de la escri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dentificar las características de los géneros académic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plicar estrategias para escribir un texto breve (comentario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162F-2E79-465E-BF02-3B222A7AD25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3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planificación 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C84C-E81A-440D-89A7-389789F3F70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strategias para generar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luvia de ideas                          Map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1" name="Picture 4" descr="j0293828"/>
          <p:cNvPicPr/>
          <p:nvPr/>
        </p:nvPicPr>
        <p:blipFill>
          <a:blip r:embed="rId1"/>
          <a:stretch/>
        </p:blipFill>
        <p:spPr>
          <a:xfrm>
            <a:off x="1547640" y="2708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5651640" y="2924280"/>
            <a:ext cx="1800000" cy="718920"/>
          </a:xfrm>
          <a:prstGeom prst="ellipse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6588000" y="3645000"/>
            <a:ext cx="576360" cy="64764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4858920" y="3284640"/>
            <a:ext cx="792360" cy="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7451640" y="3284640"/>
            <a:ext cx="1008000" cy="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6" name="Line 9"/>
          <p:cNvSpPr/>
          <p:nvPr/>
        </p:nvSpPr>
        <p:spPr>
          <a:xfrm flipV="1">
            <a:off x="6732720" y="2349000"/>
            <a:ext cx="647640" cy="57492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7" name="Line 10"/>
          <p:cNvSpPr/>
          <p:nvPr/>
        </p:nvSpPr>
        <p:spPr>
          <a:xfrm flipH="1" flipV="1">
            <a:off x="5364000" y="2420640"/>
            <a:ext cx="648000" cy="57636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8" name="Line 11"/>
          <p:cNvSpPr/>
          <p:nvPr/>
        </p:nvSpPr>
        <p:spPr>
          <a:xfrm flipH="1">
            <a:off x="5724360" y="3645000"/>
            <a:ext cx="432000" cy="504720"/>
          </a:xfrm>
          <a:prstGeom prst="line">
            <a:avLst/>
          </a:prstGeom>
          <a:ln w="381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8388360" y="2923920"/>
            <a:ext cx="287280" cy="36036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8388360" y="3284640"/>
            <a:ext cx="36036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8388360" y="3284640"/>
            <a:ext cx="287280" cy="288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2" name="Line 17"/>
          <p:cNvSpPr/>
          <p:nvPr/>
        </p:nvSpPr>
        <p:spPr>
          <a:xfrm flipH="1">
            <a:off x="5148000" y="3284640"/>
            <a:ext cx="144360" cy="21564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3" name="Line 18"/>
          <p:cNvSpPr/>
          <p:nvPr/>
        </p:nvSpPr>
        <p:spPr>
          <a:xfrm flipH="1" flipV="1">
            <a:off x="5076720" y="3068640"/>
            <a:ext cx="216000" cy="21600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7020000" y="2708280"/>
            <a:ext cx="36036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5" name="Line 20"/>
          <p:cNvSpPr/>
          <p:nvPr/>
        </p:nvSpPr>
        <p:spPr>
          <a:xfrm flipH="1">
            <a:off x="5435640" y="2781360"/>
            <a:ext cx="216000" cy="1429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6" name="Line 21"/>
          <p:cNvSpPr/>
          <p:nvPr/>
        </p:nvSpPr>
        <p:spPr>
          <a:xfrm flipH="1">
            <a:off x="6803640" y="4076640"/>
            <a:ext cx="73080" cy="28908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7" name="Line 22"/>
          <p:cNvSpPr/>
          <p:nvPr/>
        </p:nvSpPr>
        <p:spPr>
          <a:xfrm flipV="1">
            <a:off x="6948360" y="3860640"/>
            <a:ext cx="28764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7020000" y="4076640"/>
            <a:ext cx="28872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9" name="Line 24"/>
          <p:cNvSpPr/>
          <p:nvPr/>
        </p:nvSpPr>
        <p:spPr>
          <a:xfrm flipV="1">
            <a:off x="5651640" y="2420640"/>
            <a:ext cx="72720" cy="14436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0" name="Line 25"/>
          <p:cNvSpPr/>
          <p:nvPr/>
        </p:nvSpPr>
        <p:spPr>
          <a:xfrm flipH="1" flipV="1">
            <a:off x="5435640" y="3933720"/>
            <a:ext cx="288720" cy="21600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5724360" y="4149720"/>
            <a:ext cx="216000" cy="1429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5435640" y="4149720"/>
            <a:ext cx="288720" cy="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3" name="Line 28"/>
          <p:cNvSpPr/>
          <p:nvPr/>
        </p:nvSpPr>
        <p:spPr>
          <a:xfrm flipH="1">
            <a:off x="5579640" y="4221000"/>
            <a:ext cx="14436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5724360" y="4221000"/>
            <a:ext cx="0" cy="14472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5" name="Line 31"/>
          <p:cNvSpPr/>
          <p:nvPr/>
        </p:nvSpPr>
        <p:spPr>
          <a:xfrm flipH="1" flipV="1">
            <a:off x="6803640" y="2636640"/>
            <a:ext cx="73080" cy="215640"/>
          </a:xfrm>
          <a:prstGeom prst="line">
            <a:avLst/>
          </a:prstGeom>
          <a:ln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C752-98AB-4851-861F-8712F193E4D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17" name="Picture 45" descr="cubo"/>
          <p:cNvPicPr/>
          <p:nvPr/>
        </p:nvPicPr>
        <p:blipFill>
          <a:blip r:embed="rId1"/>
          <a:stretch/>
        </p:blipFill>
        <p:spPr>
          <a:xfrm>
            <a:off x="5219640" y="2492280"/>
            <a:ext cx="2737080" cy="2592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6" descr="estrella"/>
          <p:cNvPicPr/>
          <p:nvPr/>
        </p:nvPicPr>
        <p:blipFill>
          <a:blip r:embed="rId2"/>
          <a:stretch/>
        </p:blipFill>
        <p:spPr>
          <a:xfrm>
            <a:off x="1187280" y="2565360"/>
            <a:ext cx="2592720" cy="1873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7"/>
          <p:cNvSpPr/>
          <p:nvPr/>
        </p:nvSpPr>
        <p:spPr>
          <a:xfrm>
            <a:off x="723960" y="533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trategias para generar idea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858600" y="151596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La estrella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5018040" y="14446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El cubo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D8E-9FC9-4E21-A5A7-C7ED59CA510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JEMPLO: Generación de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formación del Modelo Didactext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strategias cognitivas y metacognitiv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mpetencia comunicativ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em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ultu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otivación y emo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til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lej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DB4-DD41-4036-B193-9026D45FED2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1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Seleccionar una estrategia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Generar ideas acerca del tema ya determinado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7D4-10EB-4827-8C37-2C8215713AE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strategias para ordenar ide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istas de idea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Asociación de idea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Agrupamientos asociativos: Representación gráfica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 Se escribe en el centro de la página la idea, el hecho o la   palabra sobre la que tenemos que trabajar, las ideas relacionadas se ordenan en forma radial alrededor del centro; no se muestra ninguna jerarquía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tegorización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Reagrupar los elementos en subconjunto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— Mapas de ideas: Representación gráfica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Esquema gráfico que pone en evidencia las relaciones entre los diferentes elementos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Reorganización del agrupamiento asociativo.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             Se colocan niveles de jerarquía: categorías, subcategorías, elementos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7E0-C5D0-4E77-AD72-64B118B5106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JEMPLO: Ordenamiento de idea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lejidad del Modelo Didactext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formación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Estrategias cognitivas y metacognitiv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em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Motivación y emo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mpetencia comunicativ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ultu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tilidad del Model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3870-DE59-4539-A784-303D1BE2F56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2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Seleccionar una estrategia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Ordenar las ideas ya antes generadas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E4B0-9293-4968-8031-63D552C3C24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JEMPLO: Bosquej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Presentación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1.1 Propósito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 Conformación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1 Círculos concéntricos: representación del dinamismo del proceso de escritura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 Los tres círculo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.1 Las tres dimensiones del tercer círculo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2.2.2 La competencia comunicativa: El texto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 Complejidad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1 Ventaja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3.2 Desventaja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4. Utilidad del Modelo Didactext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4.1 Aplicaciones recientes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5. Conclusión.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D9B0-F152-4D5B-83F9-8E33089CFFD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3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eleccionar estrategia (s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aborar el bosquejo del texto que se va a escribi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8FF-B281-448B-A02B-BAA80D9DD4C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19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articipar en la revisión compartida de un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Tomar conciencia de las áreas de fortaleza y de las áreas de oportunidad de desarrollo para organizar un programa personal dirigido a desarrollar las habilidades relacionadas con la redacción de géner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crementar actitudes favorables a la redacción de text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D1B-8922-4DAD-AF6C-9E49F307339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4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 compartida del bosquej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elaboración del bosquejo a partir de las sugerencias recibid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F61-1A46-40EB-B60C-0B031E77B86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5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 Narrow"/>
              </a:rPr>
              <a:t>Escritura del primer borrador.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 Narrow"/>
              </a:rPr>
              <a:t>Consulta documental.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BEA-ED43-4548-AD23-D6D264CEF3B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4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textualización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6CA-1C46-4FB5-AA81-FA099F17DE8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opiedades del 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decuación    Usa la lengua más apropiada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herencia      Dominio del procesamiento 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hesión         Relaciona las partes de un texto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resentación   Abarca las convenciones 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tilística        Capacidad expresiva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rrección      Aplicación de las normas…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3203640" y="2276640"/>
            <a:ext cx="14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132000" y="2781360"/>
            <a:ext cx="2160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3203640" y="2276640"/>
            <a:ext cx="7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2987640" y="3357720"/>
            <a:ext cx="2890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3348000" y="3789360"/>
            <a:ext cx="71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916360" y="4365720"/>
            <a:ext cx="287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3132000" y="4869000"/>
            <a:ext cx="71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ED31-83B6-4538-8EB1-4675AA2517F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coherencia de un 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 texto es coherente si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 estructura significativa tiene organización lógica y tiene armonía sintáctica, semántica y pragmática entre sus par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 significado es interpretable porque ayuda al lector a hacer las inferencias necesarias.   (G. Reyes, 1998:127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038-C056-4824-A676-A437DBDE5B1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quema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la coherencia de un texto </a:t>
            </a:r>
            <a:br>
              <a:rPr sz="4000"/>
            </a:br>
            <a:r>
              <a:rPr b="0" lang="es-MX" sz="2800" spc="-1" strike="noStrike">
                <a:solidFill>
                  <a:srgbClr val="ffcc00"/>
                </a:solidFill>
                <a:latin typeface="Impact"/>
              </a:rPr>
              <a:t>(G. Reyes, 1998: 128)</a:t>
            </a:r>
            <a:endParaRPr b="0" lang="en-US" sz="28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1619280" y="1773360"/>
            <a:ext cx="6192720" cy="446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grpSp>
        <p:nvGrpSpPr>
          <p:cNvPr id="267" name="Group 30"/>
          <p:cNvGrpSpPr/>
          <p:nvPr/>
        </p:nvGrpSpPr>
        <p:grpSpPr>
          <a:xfrm>
            <a:off x="2987640" y="2276640"/>
            <a:ext cx="4105080" cy="3480120"/>
            <a:chOff x="2987640" y="2276640"/>
            <a:chExt cx="4105080" cy="3480120"/>
          </a:xfrm>
        </p:grpSpPr>
        <p:sp>
          <p:nvSpPr>
            <p:cNvPr id="268" name="Line 21"/>
            <p:cNvSpPr/>
            <p:nvPr/>
          </p:nvSpPr>
          <p:spPr>
            <a:xfrm>
              <a:off x="3505320" y="4822560"/>
              <a:ext cx="722880" cy="469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2987640" y="3251520"/>
              <a:ext cx="3776760" cy="146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3315960" y="3251520"/>
              <a:ext cx="0" cy="146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5943240" y="3251520"/>
              <a:ext cx="0" cy="1461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380880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>
              <a:off x="430092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495792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5" name="Line 11"/>
            <p:cNvSpPr/>
            <p:nvPr/>
          </p:nvSpPr>
          <p:spPr>
            <a:xfrm>
              <a:off x="5450760" y="325152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 flipV="1">
              <a:off x="380880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 flipV="1">
              <a:off x="430092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 flipV="1">
              <a:off x="4957920" y="4469400"/>
              <a:ext cx="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79" name="Line 15"/>
            <p:cNvSpPr/>
            <p:nvPr/>
          </p:nvSpPr>
          <p:spPr>
            <a:xfrm flipV="1">
              <a:off x="5450760" y="4223880"/>
              <a:ext cx="0" cy="48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0" name="Line 16"/>
            <p:cNvSpPr/>
            <p:nvPr/>
          </p:nvSpPr>
          <p:spPr>
            <a:xfrm flipV="1">
              <a:off x="3151800" y="2276640"/>
              <a:ext cx="0" cy="9748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1" name="Line 17"/>
            <p:cNvSpPr/>
            <p:nvPr/>
          </p:nvSpPr>
          <p:spPr>
            <a:xfrm>
              <a:off x="3151800" y="2276640"/>
              <a:ext cx="9849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2" name="Line 18"/>
            <p:cNvSpPr/>
            <p:nvPr/>
          </p:nvSpPr>
          <p:spPr>
            <a:xfrm>
              <a:off x="4137120" y="2276640"/>
              <a:ext cx="0" cy="974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6436080" y="4115880"/>
              <a:ext cx="656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 flipV="1">
              <a:off x="5614560" y="2518920"/>
              <a:ext cx="0" cy="975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5614560" y="471276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 flipH="1">
              <a:off x="4629600" y="5199480"/>
              <a:ext cx="98496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 flipV="1">
              <a:off x="4629600" y="4712400"/>
              <a:ext cx="0" cy="48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8" name="Text Box 28"/>
            <p:cNvSpPr/>
            <p:nvPr/>
          </p:nvSpPr>
          <p:spPr>
            <a:xfrm>
              <a:off x="3505320" y="3879000"/>
              <a:ext cx="227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Impact"/>
                </a:rPr>
                <a:t>TEX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  <p:sp>
          <p:nvSpPr>
            <p:cNvPr id="289" name="Text Box 29"/>
            <p:cNvSpPr/>
            <p:nvPr/>
          </p:nvSpPr>
          <p:spPr>
            <a:xfrm>
              <a:off x="3505320" y="5388480"/>
              <a:ext cx="258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Impact"/>
                </a:rPr>
                <a:t>CONTEXTO</a:t>
              </a:r>
              <a:endParaRPr b="1" lang="en-US" sz="1800" spc="-1" strike="noStrike">
                <a:solidFill>
                  <a:srgbClr val="ffff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17B-3514-47F9-A796-95D264E2D50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trategias para la textualización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eñales de tráfico”: Björk y Blomstend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ablecimiento d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ectores (marcadores textuales)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peticiones, sinónimos y pronombr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untu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ransición entr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BD5F-4849-4E3E-B272-925672D8FB5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A48-0788-4F03-84A8-A13EA0CA85B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C2F6-BBD9-49BD-BE8A-F8A7262C102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298" name="Picture 6" descr="comprension lectora"/>
          <p:cNvPicPr/>
          <p:nvPr/>
        </p:nvPicPr>
        <p:blipFill>
          <a:blip r:embed="rId1"/>
          <a:stretch/>
        </p:blipFill>
        <p:spPr>
          <a:xfrm>
            <a:off x="2987640" y="2060640"/>
            <a:ext cx="3465720" cy="3529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611280" y="26028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onformación del párrafo: Baumann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38400" y="234936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Idea principal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635160" y="3100320"/>
            <a:ext cx="231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Ideas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Impact"/>
              </a:rPr>
              <a:t>secundarias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771640" y="2637000"/>
            <a:ext cx="50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3" name="Line 11"/>
          <p:cNvSpPr/>
          <p:nvPr/>
        </p:nvSpPr>
        <p:spPr>
          <a:xfrm flipH="1">
            <a:off x="3995280" y="3357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4" name="Line 12"/>
          <p:cNvSpPr/>
          <p:nvPr/>
        </p:nvSpPr>
        <p:spPr>
          <a:xfrm flipH="1">
            <a:off x="3492000" y="3500280"/>
            <a:ext cx="32403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5724000" y="3573360"/>
            <a:ext cx="1008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6227280" y="3860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ADB-64E1-467A-8B22-9099C3FA04B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quema organizador de los contenidos del módul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6800" y="1273320"/>
            <a:ext cx="8390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1. El proceso de la escritura.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              ¿Dónde estoy?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2.  Los géneros académico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3.  La planifica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</a:t>
            </a: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 </a:t>
            </a:r>
            <a:r>
              <a:rPr b="1" lang="es-MX" sz="1600" spc="-1" strike="noStrike">
                <a:solidFill>
                  <a:srgbClr val="ffff00"/>
                </a:solidFill>
                <a:latin typeface="Impact"/>
              </a:rPr>
              <a:t>Revisión y práctica de estrategias.</a:t>
            </a:r>
            <a:endParaRPr b="1" lang="en-US" sz="16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4.  La textualiza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 </a:t>
            </a:r>
            <a:r>
              <a:rPr b="1" lang="es-MX" sz="1600" spc="-1" strike="noStrike">
                <a:solidFill>
                  <a:srgbClr val="ffff00"/>
                </a:solidFill>
                <a:latin typeface="Impact"/>
              </a:rPr>
              <a:t>Revisión y práctica de estrategias.</a:t>
            </a:r>
            <a:endParaRPr b="1" lang="en-US" sz="16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5.  La edición de un texto académico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Impact"/>
              </a:rPr>
              <a:t>6. 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Características generales de los texto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académicos más usados.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Impact"/>
              </a:rPr>
              <a:t>7.  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Hacia una mejor competencia en la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¿Hacia dónde me voy a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escritura de textos académicos.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      dirigir?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	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084720" y="1700280"/>
            <a:ext cx="0" cy="4105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1979640" y="162864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1979640" y="213372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79640" y="328464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979640" y="4365720"/>
            <a:ext cx="0" cy="215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979640" y="494172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979640" y="5734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211640" y="1484280"/>
            <a:ext cx="7920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1D4-66EB-4890-B516-C8074180F76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pic>
        <p:nvPicPr>
          <p:cNvPr id="308" name="Picture 3" descr="hamburgesa2"/>
          <p:cNvPicPr/>
          <p:nvPr/>
        </p:nvPicPr>
        <p:blipFill>
          <a:blip r:embed="rId1"/>
          <a:stretch/>
        </p:blipFill>
        <p:spPr>
          <a:xfrm>
            <a:off x="2843280" y="1844640"/>
            <a:ext cx="3456000" cy="3097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403280" y="6922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11280" y="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onformación del párrafo: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More.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39840" y="19065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684360" y="1557360"/>
            <a:ext cx="129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611280" y="1844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Pan superior: oración  de introducción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611280" y="371628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Lechuga, jitomate, cebolla y queso: ideas secundarias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6804000" y="21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Carne: idea principal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6804000" y="3860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Impact"/>
              </a:rPr>
              <a:t>Pan inferior: oración de conclusión</a:t>
            </a:r>
            <a:endParaRPr b="1" lang="en-US" sz="1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7" name="Line 17"/>
          <p:cNvSpPr/>
          <p:nvPr/>
        </p:nvSpPr>
        <p:spPr>
          <a:xfrm>
            <a:off x="2195640" y="2565360"/>
            <a:ext cx="1224000" cy="21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2627280" y="3284280"/>
            <a:ext cx="792360" cy="1081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19" name="Line 19"/>
          <p:cNvSpPr/>
          <p:nvPr/>
        </p:nvSpPr>
        <p:spPr>
          <a:xfrm flipH="1">
            <a:off x="5866920" y="2421000"/>
            <a:ext cx="100980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0" name="Line 20"/>
          <p:cNvSpPr/>
          <p:nvPr/>
        </p:nvSpPr>
        <p:spPr>
          <a:xfrm flipH="1">
            <a:off x="5867280" y="4076640"/>
            <a:ext cx="8654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6E7-43FE-445A-B546-29798AC3ECE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6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el establecimiento de párrafos con l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de Cassany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cambiar escritos para otra revi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el texto: reescribirl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el escrito modific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AB7-54F8-44EE-B490-072657E2446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 7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 del contenido con la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 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de Serafini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cambiar escritos para otra revi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texto: reescribirl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escrito modific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66E3-C2A1-4FAE-BEAF-253B0075360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8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 uso de conectores con l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dificar texto. (No se reescribe hasta terminar de revisar el uso de las otras señales para conseguir coherencia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0DF-90C8-40BD-95AB-09A7C9CEFBE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9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ar: repeticiones, sinónimos y pronombres; puntuación; y, transición entre párraf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asar en limpio el escrit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uardar versión anterior corregid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0DD-E965-41C1-9918-E71DAC3CA50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Práctica Núm. 10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ar para escribir la versión última del tex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Consultar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Diez truquillos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…, de D. Cassany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Guía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 Serafini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Veinte errores frecuentes y veinte reglas para evitarlos,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en G. Reyes, 1998: 89 - 97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Otras obras de consul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ión compartida con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Guía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de Björk y Blomsten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scribir en limpio 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FEA-0BC0-413D-8C73-E30E8A5E837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280" y="249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5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La edición de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0B79-E673-4898-A8E8-8EDAD1F7B7C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Recomendaciones para editar un texto académic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Verificar la adecuación d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isposición espacial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Tipografí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mágenes y gráf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Índice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rátul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pego al formato y, si procede, a las normas para public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¡No abusar del diseño gráfico!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DFC-2FB7-4184-9157-FE37C2E954CF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923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6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aracterísticas generales de géneros académicos más usad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E70-6659-49E3-AB24-1EE9A310FB0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Géneros académicos más utilizados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entari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nsay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ec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onenci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rtículo de opinión o de divulg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nograf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2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FD0-F4F0-43A7-8157-D1C7CE28E0B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02760" y="1844640"/>
            <a:ext cx="7790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Impact"/>
              </a:rPr>
              <a:t>Tema 1:</a:t>
            </a: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Impact"/>
              </a:rPr>
              <a:t>El proceso de la escritura</a:t>
            </a: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211-85AC-477E-B63B-707EE892B5B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comentari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comentarios se organizan en este orden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1° Planteamiento del tema: Presentación de lo que se comen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2° Explicación ordenada del asunto o de los sucesos comentado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3° Juicio crítico del comentaris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4° Enunciación de las posibles consecuenci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18DE-23E6-4F44-A80E-2E57437C504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ensay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unque el orden de los elementos es muy flexible, el ensayo académico sigue este orde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1° Análisis del tema: Descrip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2° Expresión de las opiniones personales con argumentos: Argumentación soportada en referenci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3° Explicación de las consecuencias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5FC-D07E-4C04-826B-61EBCDA57A5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lecció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opósito académico indiscutib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resentación de una secuencia didáctica complet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vitar el abuso de la nominaliza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xplicar la terminolog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mplear todos los recursos que faciliten su comprensión por parte del lect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117B-B086-41C1-847B-AA8163E795D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ponenci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elaboran para responder a una convocatori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racterísticas claramente establecid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arte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Resumen (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abstract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Palabras clave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Desarrollo del tem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Not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- Bibliografí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C65-CDB8-406A-AB59-1407DCA5D17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 artículo de opinion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o de divulgación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s partes que conforman un artículo so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Planteamiento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ción de los elementos centrales del tem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Juicio crític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 Perspectiv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- Solu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716-07D5-4B70-933C-5B6033A7F0D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monografí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monografía es un texto más o menos extens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s partes o secciones que debe tener una monografía son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A. Introducción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B. Desarrollo del tema.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C. Conclusion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. Bibliografí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BA5-6F5C-458C-A8E4-D947C944B26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560" y="2636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Tema 7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Hacia una mejor competencia 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en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la escritura de  géneros académicos</a:t>
            </a:r>
            <a:r>
              <a:rPr b="0" lang="es-ES" sz="40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743-ED80-4C71-A8F1-AFE681C4F69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cc00"/>
                </a:solidFill>
                <a:latin typeface="Impact"/>
              </a:rPr>
              <a:t>Se buscan…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Analizar todos los escritos elaborados para hacer una </a:t>
            </a:r>
            <a:r>
              <a:rPr b="1" i="1" lang="es-MX" sz="3200" spc="-1" strike="noStrike">
                <a:solidFill>
                  <a:srgbClr val="ffffff"/>
                </a:solidFill>
                <a:latin typeface="Arial Narrow"/>
              </a:rPr>
              <a:t>lista de las faltas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más frecuen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entar los resultados del análisis y las expectativas para erradicar las falt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ensar en la recompensa que se obtendrá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A925-587E-47D5-A179-9C94AA8BFD1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aboración de un programa personal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ntifica tus áreas de fortaleza y de oportunidad de desarrollo: toma en cuenta los resultados de </a:t>
            </a:r>
            <a:r>
              <a:rPr b="1" i="1" lang="es-MX" sz="2800" spc="-1" strike="noStrike">
                <a:solidFill>
                  <a:srgbClr val="ffffff"/>
                </a:solidFill>
                <a:latin typeface="Arial Narrow"/>
              </a:rPr>
              <a:t>Se buscan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abora un programa personal para desarrollar las habilidades relacionadas con la escritura de géneros académic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mprométete con otro colega para apoyarse mutuamente en la realización de este program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7BB-2B00-4A0E-AB35-A3D7993CED2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¡Ánimo!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¡Vayan adelante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 en el camino para convertirse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n escritores/as expertos/a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de géneros académicos!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F1B-CF7E-49BF-8400-0DD0F268188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Impact"/>
              </a:rPr>
              <a:t>Resultado de investigaciones sobre las conductas de escritos expertos </a:t>
            </a:r>
            <a:br>
              <a:rPr sz="3200"/>
            </a:br>
            <a:r>
              <a:rPr b="0" lang="es-MX" sz="3200" spc="-1" strike="noStrike">
                <a:solidFill>
                  <a:srgbClr val="ffcc00"/>
                </a:solidFill>
                <a:latin typeface="Impact"/>
              </a:rPr>
              <a:t>y escritores aprendices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so de estrategias en: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Planeación,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xtualización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sión, 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dición final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mpleo de las estrategias: flexible vs. inflexib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886-DA87-41CE-98B8-BBC06CA4FE3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3600" y="915480"/>
            <a:ext cx="7543800" cy="17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D. R.  Septiembre de 2007</a:t>
            </a:r>
            <a:br>
              <a:rPr sz="3600"/>
            </a:b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Monterrey, Nuevo León; México.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23600" y="3789000"/>
            <a:ext cx="7620120" cy="230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uela de Graduados en Edu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iversidad Virt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cnológico de Monterre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8532-0231-4F83-B852-07C57D808D0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¿Qué es una estrategia?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on sospechas inteligentes aunque arriesgadas para llevar a cabo una activida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gulan la activida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detallan ni prescriben totalmente el curso  de una ac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dependientes de un ámbito particula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u aplicación requiere de una contextualización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mplican autodirección y autocontrol (supervisión y evaluación       modificaciones necesaria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411280" y="5734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5D6-4C28-4173-98B3-33F0031581E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entalidad estratégic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MX" sz="3600" spc="-1" strike="noStrike">
                <a:solidFill>
                  <a:srgbClr val="ffffff"/>
                </a:solidFill>
                <a:latin typeface="Arial Narrow"/>
              </a:rPr>
              <a:t>Capacidad de representarse y analizar problemas y ser flexible para dar con las soluciones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ADB4-FF60-4F19-B78E-5143936D76B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ritor experto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62012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gue un proceso complej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naliza a sus lect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Planifica su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Busca idea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ace borrad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visa los borradores, etcéte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ultado: Produce textos coherentes, claros y correctos que el lector entiende sin dificulta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9:20:41Z</dcterms:created>
  <dc:creator>Perla Jtt. Sánchez Reyna</dc:creator>
  <dc:description/>
  <dc:language>en-US</dc:language>
  <cp:lastModifiedBy>claudia</cp:lastModifiedBy>
  <dcterms:modified xsi:type="dcterms:W3CDTF">2009-11-25T21:32:13Z</dcterms:modified>
  <cp:revision>116</cp:revision>
  <dc:subject>Lic. Cesar Davis Moncada</dc:subject>
  <dc:title>PAH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SPSDescription">
    <vt:lpwstr/>
  </property>
  <property fmtid="{D5CDD505-2E9C-101B-9397-08002B2CF9AE}" pid="6" name="Status">
    <vt:lpwstr/>
  </property>
</Properties>
</file>